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1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92595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1160"/>
            <a:ext cx="92595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116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116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04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04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116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116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1160"/>
            <a:ext cx="29811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040"/>
            <a:ext cx="92595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92595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45183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040"/>
            <a:ext cx="45183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040"/>
            <a:ext cx="45183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116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4518360" cy="10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116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164773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040"/>
            <a:ext cx="45183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1160"/>
            <a:ext cx="9259560" cy="50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3" descr=""/>
          <p:cNvPicPr/>
          <p:nvPr/>
        </p:nvPicPr>
        <p:blipFill>
          <a:blip r:embed="rId2"/>
          <a:stretch/>
        </p:blipFill>
        <p:spPr>
          <a:xfrm>
            <a:off x="0" y="58680"/>
            <a:ext cx="102902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rostokąt 3"/>
          <p:cNvSpPr/>
          <p:nvPr/>
        </p:nvSpPr>
        <p:spPr>
          <a:xfrm>
            <a:off x="7377120" y="536400"/>
            <a:ext cx="2913120" cy="9763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773"/>
              </a:solidFill>
              <a:latin typeface="Calibri"/>
            </a:endParaRPr>
          </a:p>
        </p:txBody>
      </p:sp>
      <p:grpSp>
        <p:nvGrpSpPr>
          <p:cNvPr id="38" name="Grupa 2"/>
          <p:cNvGrpSpPr/>
          <p:nvPr/>
        </p:nvGrpSpPr>
        <p:grpSpPr>
          <a:xfrm>
            <a:off x="0" y="536400"/>
            <a:ext cx="10191600" cy="971640"/>
            <a:chOff x="0" y="536400"/>
            <a:chExt cx="10191600" cy="971640"/>
          </a:xfrm>
        </p:grpSpPr>
        <p:sp>
          <p:nvSpPr>
            <p:cNvPr id="39" name="Prostokąt 1"/>
            <p:cNvSpPr/>
            <p:nvPr/>
          </p:nvSpPr>
          <p:spPr>
            <a:xfrm>
              <a:off x="0" y="536400"/>
              <a:ext cx="7377120" cy="971640"/>
            </a:xfrm>
            <a:prstGeom prst="rect">
              <a:avLst/>
            </a:prstGeom>
            <a:solidFill>
              <a:srgbClr val="133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4773"/>
                </a:solidFill>
                <a:latin typeface="Calibri"/>
              </a:endParaRPr>
            </a:p>
          </p:txBody>
        </p:sp>
        <p:sp>
          <p:nvSpPr>
            <p:cNvPr id="40" name="Tytuł 15"/>
            <p:cNvSpPr/>
            <p:nvPr/>
          </p:nvSpPr>
          <p:spPr>
            <a:xfrm>
              <a:off x="7391520" y="536400"/>
              <a:ext cx="28000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1480"/>
                  <a:tab algn="l" pos="1542960"/>
                  <a:tab algn="l" pos="2314440"/>
                  <a:tab algn="l" pos="3086280"/>
                  <a:tab algn="l" pos="3857760"/>
                  <a:tab algn="l" pos="4629240"/>
                  <a:tab algn="l" pos="5400720"/>
                  <a:tab algn="l" pos="6172200"/>
                  <a:tab algn="l" pos="6943680"/>
                  <a:tab algn="l" pos="7715160"/>
                  <a:tab algn="l" pos="8486640"/>
                  <a:tab algn="l" pos="9258480"/>
                  <a:tab algn="l" pos="10029960"/>
                  <a:tab algn="l" pos="10801440"/>
                </a:tabLst>
              </a:pPr>
              <a:r>
                <a:rPr b="1" lang="en-US" sz="2000" spc="-1" strike="noStrike">
                  <a:solidFill>
                    <a:srgbClr val="133d6c"/>
                  </a:solidFill>
                  <a:latin typeface="Calibri Light"/>
                </a:rPr>
                <a:t>Author</a:t>
              </a:r>
              <a:endParaRPr b="0" lang="en-US" sz="2000" spc="-1" strike="noStrike">
                <a:solidFill>
                  <a:srgbClr val="164773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1480"/>
                  <a:tab algn="l" pos="1542960"/>
                  <a:tab algn="l" pos="2314440"/>
                  <a:tab algn="l" pos="3086280"/>
                  <a:tab algn="l" pos="3857760"/>
                  <a:tab algn="l" pos="4629240"/>
                  <a:tab algn="l" pos="5400720"/>
                  <a:tab algn="l" pos="6172200"/>
                  <a:tab algn="l" pos="6943680"/>
                  <a:tab algn="l" pos="7715160"/>
                  <a:tab algn="l" pos="8486640"/>
                  <a:tab algn="l" pos="9258480"/>
                  <a:tab algn="l" pos="10029960"/>
                  <a:tab algn="l" pos="10801440"/>
                </a:tabLst>
              </a:pPr>
              <a:r>
                <a:rPr b="1" lang="en-US" sz="2000" spc="-1" strike="noStrike">
                  <a:solidFill>
                    <a:srgbClr val="133d6c"/>
                  </a:solidFill>
                  <a:latin typeface="Calibri Light"/>
                </a:rPr>
                <a:t>Affiliation</a:t>
              </a:r>
              <a:endParaRPr b="0" lang="en-US" sz="2000" spc="-1" strike="noStrike">
                <a:solidFill>
                  <a:srgbClr val="164773"/>
                </a:solidFill>
                <a:latin typeface="Calibri"/>
              </a:endParaRPr>
            </a:p>
          </p:txBody>
        </p:sp>
      </p:grpSp>
      <p:sp>
        <p:nvSpPr>
          <p:cNvPr id="41" name="Tytuł 15"/>
          <p:cNvSpPr/>
          <p:nvPr/>
        </p:nvSpPr>
        <p:spPr>
          <a:xfrm>
            <a:off x="14400" y="536400"/>
            <a:ext cx="736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 Light"/>
              </a:rPr>
              <a:t>Poster title</a:t>
            </a:r>
            <a:endParaRPr b="0" lang="en-US" sz="2800" spc="-1" strike="noStrike">
              <a:solidFill>
                <a:srgbClr val="16477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26T15:42:46Z</dcterms:created>
  <dc:creator/>
  <dc:description/>
  <dc:language>en-US</dc:language>
  <cp:lastModifiedBy/>
  <dcterms:modified xsi:type="dcterms:W3CDTF">2023-04-02T10:00:40Z</dcterms:modified>
  <cp:revision>1</cp:revision>
  <dc:subject/>
  <dc:title/>
</cp:coreProperties>
</file>